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38160" rIns="38160" tIns="17640" bIns="1764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46EDD-A623-4E91-ADD1-818277F7B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3240" y="714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1040" y="4357440"/>
            <a:ext cx="5032440" cy="414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Resume important aspects of previous portal projects (e.g. Employee Por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Document current state of knowledge regarding identified us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Broaden brandville guidelines in portal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Use existing knowledge to cut down on time required for requirements gathering /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2DF42E7B-47C8-4389-9B13-B993CDBD5BC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13.xml"/><Relationship Id="rId6" Type="http://schemas.openxmlformats.org/officeDocument/2006/relationships/slide" Target="slide31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40.xml"/><Relationship Id="rId5" Type="http://schemas.openxmlformats.org/officeDocument/2006/relationships/slide" Target="slide38.xml"/><Relationship Id="rId6" Type="http://schemas.openxmlformats.org/officeDocument/2006/relationships/slide" Target="slide36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1971720"/>
            <a:ext cx="6750000" cy="487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yle Guide for AIM Por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76160" y="3266640"/>
            <a:ext cx="6064200" cy="226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Autofit/>
          </a:bodyPr>
          <a:p>
            <a:pPr indent="0" algn="ctr">
              <a:lnSpc>
                <a:spcPts val="4499"/>
              </a:lnSpc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Portal Servi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0.9, May 12th, 2003  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4 Zones - Navigation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89080" y="1467000"/>
            <a:ext cx="4049640" cy="35337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upper Navigation has a defined size of 90 (height) x 634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The Primary Navig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spcBef>
                <a:spcPts val="162"/>
              </a:spcBef>
              <a:buNone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left Navigation has a defined size of 320 (height) x 144 (width).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his left Navigation Zone can be minimized to 320 (height) x 18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The 2nd and 3rd level naviga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Collapse Navig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spcBef>
                <a:spcPts val="162"/>
              </a:spcBef>
              <a:buNone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5 Zones - Content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27240" y="1466640"/>
            <a:ext cx="4049640" cy="31658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Content Zone has a defined size of 320 (height) x 634 (width) pixel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he Content Zone has a maximized size of 320 (height) x 760 (width) pixels if the the left Navigation Zone is minimized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Footer including 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Security</a:t>
            </a:r>
            <a:r>
              <a:rPr b="0" lang="en-US" sz="1300" spc="-1" strike="noStrike" u="sng" baseline="30000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4" action="ppaction://hlinksldjump"/>
              </a:rPr>
              <a:t>iVie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may contai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5" action="ppaction://hlinksldjump"/>
              </a:rPr>
              <a:t>Bread Crumb Navig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Eco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6" action="ppaction://hlinksldjump"/>
              </a:rPr>
              <a:t> Country / Group / Corporate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08200" y="1389240"/>
            <a:ext cx="2987640" cy="23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3. Portal Design Elements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67000"/>
            <a:ext cx="7772400" cy="45162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69120" anchor="t">
            <a:normAutofit/>
          </a:bodyPr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1" action="ppaction://hlinksldjump"/>
              </a:rPr>
              <a:t>3.1	Bread Crumb Navi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o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4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Vie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Se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n / Log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purpose 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gation (Primary and Secondary Navig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 Country/ Unit/ Topic Se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1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er Identif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25000" y="1294920"/>
            <a:ext cx="7239240" cy="4419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read Crumb Navigation lists the pages, visited by the user in a chronological or hierarchical order. By clicking on an element the user navigates back to the corresponding portal pa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read Crumb Navig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 defined distance of 18 pixels to the upper marg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18 pixels to the side marg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featured in system font Arial Regular, size 11p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rial character “&gt;” is used as a separa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ngth of the path is based on the content width of 432 pixel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imizing content width doesn’t affect its posi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s that are too long are interrupted (see example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1 Elements - Bread Crumb Navigation (1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18312" b="17808"/>
          <a:stretch/>
        </p:blipFill>
        <p:spPr>
          <a:xfrm>
            <a:off x="1708200" y="1773360"/>
            <a:ext cx="6224400" cy="4697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36560" y="12409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1 Elements - Bread Crumb Navigation (2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68720" y="4017960"/>
            <a:ext cx="4381560" cy="22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571880" y="4132440"/>
            <a:ext cx="1351080" cy="1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16760" y="3876840"/>
            <a:ext cx="1227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d Cru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3920" y="2730600"/>
            <a:ext cx="115272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16280" y="1879560"/>
            <a:ext cx="901440" cy="123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93960" y="2430360"/>
            <a:ext cx="10270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74240" y="1420920"/>
            <a:ext cx="7239240" cy="4419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7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oter is positioned in the Content Zone near the bottom margi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has a defined distance of 18 pixels to the side margi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oter is featured in system font Arial Regular, size 10p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separated from the content by a 1px solid lin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co Copyright with the year of issue is valid for Internet and Intran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Internet the content of the Footer must be in accordance with the respective legal regulatio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oter contains links to further information (Copyright, Privacy Policy, Legal, Corporate Info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Ru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 agreements of the organizational units are possi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2 Elements - Footer (1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18350" r="17994" b="0"/>
          <a:stretch/>
        </p:blipFill>
        <p:spPr>
          <a:xfrm>
            <a:off x="1708200" y="1801800"/>
            <a:ext cx="6251400" cy="4668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3647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2 Elements - Footer (2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16760" y="5676840"/>
            <a:ext cx="145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o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577280" y="5943600"/>
            <a:ext cx="134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60800" y="5732640"/>
            <a:ext cx="4389480" cy="372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3240" y="1803240"/>
            <a:ext cx="115272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06600" y="5937120"/>
            <a:ext cx="4017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to Help guides the user to a page where he’s provided with topic and task oriente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instructions on how to use the functionalities and content of the Port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 link is positioned in the "Local" zone on the extreme right. It is generally used in combination with the link to Sitemap and Contact and its position is fixe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 combination Sitemap, Contact, Help has a defined distance of 12 pixels to the bottom margin and 9 pixels to the left to the vertical line which is defined by the standard gri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s are designed in the system font Arial Regular in the font size 11p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3 Elements - Help (1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18312" t="0" r="0" b="17808"/>
          <a:stretch/>
        </p:blipFill>
        <p:spPr>
          <a:xfrm>
            <a:off x="1708200" y="1773360"/>
            <a:ext cx="6224400" cy="4697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3948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3 Elements - Help (2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30880" y="3218040"/>
            <a:ext cx="419400" cy="220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571880" y="3332160"/>
            <a:ext cx="1351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16760" y="3076560"/>
            <a:ext cx="1227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66960" y="2730600"/>
            <a:ext cx="115236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4666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25000"/>
          </a:bodyPr>
          <a:p>
            <a:pPr marL="44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s are positioned in the Content Zon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 and position of the iViews are adapted on the Fibonacci Gri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View consists of a header bar and a content area.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eader bar contains the iView title (left) and small icons (right) for accessing standard functionalit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View width and height depends on the chosen content lay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s shouldn’t utilize horizontal scrollba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content has to be designed with the constrained iView height &amp; width in mind. If not iViews automatically produce scroll bars when they have a constrained size (height and width) and the content is larger than that constrained iView siz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eader bar is 18 px in heigh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ing between the iView border and the actual content is 9 pixe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1 of 4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956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tyle guide contai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design, interaction elements for portal sites and its applica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services and iViews). 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s several requir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arise from different boundary conditions like the SAP-platform, the Eco online design guidelines, context of use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ly, practic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s gathered in previous &amp; current portal projects and careful attention to considerations regard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bility best practi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ere taken into account to assure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res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ocument is an additional chapter to the existing E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ine Design Guidel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brandville.eco.com. Therefore the document centers on definitions that differ or are absent in the Eco Online Design Guidelin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 specifications are highlighted i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old and italic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derlin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s link directly to slides with more detailed information on the respective topi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08200" y="178128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2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20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 (800 x 600 pix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27520" y="3627360"/>
            <a:ext cx="4795560" cy="1701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54920" y="416232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42160" y="442260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7800" y="2556000"/>
            <a:ext cx="115272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90720" y="1828800"/>
            <a:ext cx="652320" cy="150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08200" y="178452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3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02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 (800 x 600 pix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32440" y="4622760"/>
            <a:ext cx="8478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26480" y="436248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27520" y="3627360"/>
            <a:ext cx="4795560" cy="261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9240" y="2530440"/>
            <a:ext cx="115272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90720" y="1828800"/>
            <a:ext cx="652320" cy="150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08200" y="1763640"/>
            <a:ext cx="6251400" cy="4707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4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647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3 (1024 x 768 pix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770600" y="4622760"/>
            <a:ext cx="8096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6480" y="436248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52840" y="3206880"/>
            <a:ext cx="5122800" cy="292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90720" y="1778040"/>
            <a:ext cx="652320" cy="150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19360" y="2328840"/>
            <a:ext cx="115272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710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4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nguage Selection is positioned in the Local Zo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has defined distances of 12 pixels to the bottom margin and 9 pixels to the right to the next vertical line which is defined by the standard gri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nguage Selection consists of links which map the target language (e.g. francais, english, deutsch, italiano 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arget languages are always displayed as one wor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nguage that has been selected is not part of the language selection on the following pa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the Language Selection shows more than 3 languages, the link “choose language” is used which opens a new window with the assortment of the target langua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s are designed in the system font Arial Regular in the font size 11p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5 Elements - Language Selection (1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36740" t="0" r="0" b="36966"/>
          <a:stretch/>
        </p:blipFill>
        <p:spPr>
          <a:xfrm>
            <a:off x="1708200" y="1819440"/>
            <a:ext cx="6229440" cy="4655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5 Elements - Language Selection (2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6648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660640" y="3835440"/>
            <a:ext cx="315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16760" y="3419640"/>
            <a:ext cx="12272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nguage Se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06920" y="3713040"/>
            <a:ext cx="1935000" cy="22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21716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4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to Login / Logout is located near the bottom margin of the upper Site Identifier Zo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has defined distances of 90 pixels to the side margin and 9 pixels to the bottom marg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n / Logout is featured in system font Arial Regular, size 11px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marked with an arrow at the beginning of the l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e Login link a popup window with the Login area ope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e Logout link the user check out his personal portal and is redirected to the public portal page of his organizational un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Home page of public portal pages the link Login is absent. Instead, a Login Area which allows a direct access is positioned in the left navigation zo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6 Elements - Login / Logout (1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924280" y="3546360"/>
            <a:ext cx="1189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in Area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Home Pag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6 Elements - Login/Logout (2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81492" b="0"/>
          <a:stretch/>
        </p:blipFill>
        <p:spPr>
          <a:xfrm>
            <a:off x="1708200" y="1773360"/>
            <a:ext cx="1158840" cy="4697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0" t="0" r="81558" b="0"/>
          <a:stretch/>
        </p:blipFill>
        <p:spPr>
          <a:xfrm>
            <a:off x="6784920" y="1801800"/>
            <a:ext cx="1147680" cy="4668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0" t="0" r="81487" b="0"/>
          <a:stretch/>
        </p:blipFill>
        <p:spPr>
          <a:xfrm>
            <a:off x="4249800" y="1801800"/>
            <a:ext cx="1152360" cy="4668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>
            <a:off x="7959240" y="3517920"/>
            <a:ext cx="62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26480" y="325764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59560" y="3414600"/>
            <a:ext cx="473040" cy="19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429160" y="3513240"/>
            <a:ext cx="62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040" y="325296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29120" y="3409920"/>
            <a:ext cx="473040" cy="195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957040" y="3807000"/>
            <a:ext cx="62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08200" y="3703680"/>
            <a:ext cx="1222200" cy="2168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90720" y="1866960"/>
            <a:ext cx="652320" cy="88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48160" y="1893960"/>
            <a:ext cx="652320" cy="88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05600" y="1895400"/>
            <a:ext cx="652680" cy="88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90640" y="4446720"/>
            <a:ext cx="852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46700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ulti-purpose Search is positioned in the Global Zone on the righ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ulti-purpose Search consists of a drop down list, a search field and a go Button on the right. On the left side it is labeled with “search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is featured in system font Arial Bold, size 11px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 Ru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personal portals the most frequent used search engine by the individual user is pres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7 Elements - Multi-purpose Search (1 of 2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467000"/>
            <a:ext cx="7772400" cy="48474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Navig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Navigation is located in the upper bar of the Navigation Zone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has defined distances of 18 pixels to the side and top margins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Navigation is featured in system font Arial Bold, size 11px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dividual navigation points are separated by a 1 px line (system character in Arial, centered)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ite Home Link is the first point in Primary Navig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Primary Navigation items are marked with a change of font col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required Primary Navigation is spread over two lin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condary Navigation becomes visible in a drop-down menu by mouse-over (with a delay time of 1/2 second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choosing one item of Primary Navigation, the Secondary Navigation becomes visible at left hand side (also when hit befor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1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7203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Navig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 Navigation is located in the left bar of the Navigation Zone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has defined distances of 4 pixels to the side (to the arrow) and 36 pixels to the top margins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econdary Navigation has a defined size of 320 (height) x 144 (width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featured in system font Arial, size 11px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t can be collapsed to the left. The minimized Secondary Navigation bar is then  320 (height) x 18 (width) pixe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collapsed Secondary Navigation is maximized automatically when an element in the Primary Navigation or the mouse-over Secondary Navigation is click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element is marked with an arrow at the beginning of the li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Secondary Navigation becomes also visible in a drop-down menu by mouse-over the Primary Navigation (with a delay time of 1/2 second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2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5943240"/>
            <a:ext cx="7086600" cy="57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PS Style Guide brings the decisive information togethe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>
              <a:lnSpc>
                <a:spcPts val="4499"/>
              </a:lnSpc>
              <a:spcBef>
                <a:spcPts val="1874"/>
              </a:spcBef>
              <a:buClr>
                <a:srgbClr val="ffffff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71720" y="2438280"/>
            <a:ext cx="289584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48240" y="2438280"/>
            <a:ext cx="289548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3862080" y="1065960"/>
            <a:ext cx="2590920" cy="1295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62440" y="4114800"/>
            <a:ext cx="2590920" cy="1295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6840" y="1143000"/>
            <a:ext cx="1594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Employee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65360" y="4905360"/>
            <a:ext cx="1680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743200"/>
            <a:ext cx="152388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 Onlin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8400" y="3048120"/>
            <a:ext cx="1128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SAP 6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43320" y="2819520"/>
            <a:ext cx="198144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tyle G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932600" y="5038560"/>
            <a:ext cx="12114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nd &amp; 3rd Level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is example of “Primary Navigation 1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45560" y="3689280"/>
            <a:ext cx="119844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nd Level;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is example of “Primary Navigation 2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08200" y="177336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3107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76520" y="914040"/>
            <a:ext cx="723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3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17560" y="3605040"/>
            <a:ext cx="1152720" cy="265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270400" y="4083120"/>
            <a:ext cx="3608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505560" y="339876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53480" y="302904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863440" y="5437080"/>
            <a:ext cx="603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70280" y="3187800"/>
            <a:ext cx="3625920" cy="977760"/>
          </a:xfrm>
          <a:custGeom>
            <a:avLst/>
            <a:gdLst/>
            <a:ahLst/>
            <a:rect l="l" t="t" r="r" b="b"/>
            <a:pathLst>
              <a:path w="2284" h="616">
                <a:moveTo>
                  <a:pt x="4" y="260"/>
                </a:moveTo>
                <a:lnTo>
                  <a:pt x="876" y="256"/>
                </a:lnTo>
                <a:lnTo>
                  <a:pt x="876" y="252"/>
                </a:lnTo>
                <a:lnTo>
                  <a:pt x="876" y="616"/>
                </a:lnTo>
                <a:lnTo>
                  <a:pt x="1500" y="608"/>
                </a:lnTo>
                <a:lnTo>
                  <a:pt x="1504" y="260"/>
                </a:lnTo>
                <a:lnTo>
                  <a:pt x="2284" y="264"/>
                </a:lnTo>
                <a:lnTo>
                  <a:pt x="2284" y="0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857680" y="3683160"/>
            <a:ext cx="146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20000" y="329580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lap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73120" y="368316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44800" y="2529000"/>
            <a:ext cx="115236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90720" y="1816200"/>
            <a:ext cx="701640" cy="150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708200" y="177336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953480" y="302904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irm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914040"/>
            <a:ext cx="723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4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17560" y="3567240"/>
            <a:ext cx="200160" cy="2651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11360" y="1364760"/>
            <a:ext cx="7772400" cy="34452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6912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32600" y="5038560"/>
            <a:ext cx="12114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lapsed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nd &amp; 3rd Level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is example of “Primary Navigation 1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505560" y="339876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939680" y="5437080"/>
            <a:ext cx="696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924200" y="3683160"/>
            <a:ext cx="701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20000" y="329580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ximi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70280" y="3187800"/>
            <a:ext cx="3625920" cy="419040"/>
          </a:xfrm>
          <a:custGeom>
            <a:avLst/>
            <a:gdLst/>
            <a:ahLst/>
            <a:rect l="l" t="t" r="r" b="b"/>
            <a:pathLst>
              <a:path w="2284" h="264">
                <a:moveTo>
                  <a:pt x="4" y="260"/>
                </a:moveTo>
                <a:lnTo>
                  <a:pt x="2284" y="264"/>
                </a:lnTo>
                <a:lnTo>
                  <a:pt x="2284" y="0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21040" y="2503440"/>
            <a:ext cx="115236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66960" y="1854360"/>
            <a:ext cx="776160" cy="997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467000"/>
            <a:ext cx="7772400" cy="38707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Personalize is positioned near the bottom margin of the upper Site Identifier Zone (only after login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has defined distances of 4 pixels to the side margin and 9 pixels to the bottom marg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Personalize is featured in system font Arial Regular, size 11px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marked with an arrow at the beginning of the l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e Personalize link a drop-down menu opens wherein the user get the option to adapt his / her profile, the portal framework or the site to his require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9 Elements - Personalize (1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rcRect l="0" t="0" r="18312" b="18060"/>
          <a:stretch/>
        </p:blipFill>
        <p:spPr>
          <a:xfrm>
            <a:off x="1708200" y="1773360"/>
            <a:ext cx="6224400" cy="46828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9 Elements - Personalize (2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43120" y="3736800"/>
            <a:ext cx="819000" cy="26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593800" y="3733920"/>
            <a:ext cx="632952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53480" y="3363840"/>
            <a:ext cx="119052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95720" y="2754360"/>
            <a:ext cx="115236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6280" y="1879560"/>
            <a:ext cx="852480" cy="123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114800" y="3703680"/>
            <a:ext cx="1828800" cy="10666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149868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cus of Portal Style Guid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2408400"/>
            <a:ext cx="15368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Usability Best Prac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4998960"/>
            <a:ext cx="13716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Interactio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4237200"/>
            <a:ext cx="9144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te Lay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5257800"/>
            <a:ext cx="14475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Eco Online Design </a:t>
            </a:r>
            <a:br>
              <a:rPr sz="1600"/>
            </a:b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4052880"/>
            <a:ext cx="17524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AP Restr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2941560"/>
            <a:ext cx="12193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Visual Design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8" idx="3"/>
            <a:endCxn id="66" idx="1"/>
          </p:cNvCxnSpPr>
          <p:nvPr/>
        </p:nvCxnSpPr>
        <p:spPr>
          <a:xfrm>
            <a:off x="3365640" y="2736360"/>
            <a:ext cx="1018080" cy="1104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1" idx="3"/>
            <a:endCxn id="66" idx="3"/>
          </p:cNvCxnSpPr>
          <p:nvPr/>
        </p:nvCxnSpPr>
        <p:spPr>
          <a:xfrm flipV="1">
            <a:off x="3123720" y="4633200"/>
            <a:ext cx="1259640" cy="1105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77" idx="1"/>
            <a:endCxn id="66" idx="6"/>
          </p:cNvCxnSpPr>
          <p:nvPr/>
        </p:nvCxnSpPr>
        <p:spPr>
          <a:xfrm flipH="1" flipV="1">
            <a:off x="5961960" y="4236840"/>
            <a:ext cx="7866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8" name=""/>
          <p:cNvCxnSpPr>
            <a:stCxn id="72" idx="3"/>
            <a:endCxn id="66" idx="2"/>
          </p:cNvCxnSpPr>
          <p:nvPr/>
        </p:nvCxnSpPr>
        <p:spPr>
          <a:xfrm>
            <a:off x="3429000" y="4229280"/>
            <a:ext cx="66744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4343400" y="37800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yle G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320" y="2057400"/>
            <a:ext cx="651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240" y="2057400"/>
            <a:ext cx="842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67640" y="2800440"/>
            <a:ext cx="1552320" cy="2856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Visual Design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te Lay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Interactio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9144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.1 Executive Summary (1/2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.1 Executive Summary (2/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7162560" cy="33220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rea of validity of the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ocument will be used for the visual and interaction design o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: Enter.eco.com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cont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: Login, Search, New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rive from an European / American use-context and a PC-based desktop ve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iven information may be a starting point for both different user and device contex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2. Screens Zones of Portal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69120" anchor="t">
            <a:normAutofit/>
          </a:bodyPr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1" action="ppaction://hlinksldjump"/>
              </a:rPr>
              <a:t>2.1	Global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2" action="ppaction://hlinksldjump"/>
              </a:rPr>
              <a:t>2.2	Local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 u="sng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2.3 	Portal Identifier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 u="sng">
                <a:solidFill>
                  <a:srgbClr val="6b6b6b"/>
                </a:solidFill>
                <a:uFillTx/>
                <a:latin typeface="Arial"/>
                <a:hlinkClick r:id="rId4" action="ppaction://hlinksldjump"/>
              </a:rPr>
              <a:t>2.4	Navigation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5" action="ppaction://hlinksldjump"/>
              </a:rPr>
              <a:t>2.5	Content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1 Zones - Global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890960" y="1466640"/>
            <a:ext cx="4050000" cy="13795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Global Zone has a defined size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4 (height) x 634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co Lo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Multi-purpose sear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2 Zones - Local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79880" y="1466640"/>
            <a:ext cx="4050000" cy="2382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Local Zone has a defined size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6 (height) x 634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Sitema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ct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Hel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may contai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Language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Country Ident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3 Zones - Portal Identifier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27240" y="1467000"/>
            <a:ext cx="4049640" cy="3404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Site Identifier Zone has a defined size of 144 (height) x 144 (width) pixel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ey Vis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on public portals (before login)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te Identifi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Login 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link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 (except on Ho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on personal portals (after login)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4" action="ppaction://hlinksldjump"/>
              </a:rPr>
              <a:t>User Ident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5" action="ppaction://hlinksldjump"/>
              </a:rPr>
              <a:t>Personaliz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6" action="ppaction://hlinksldjump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Style Guide</dc:description>
  <dc:language>en-US</dc:language>
  <cp:lastModifiedBy>d031429</cp:lastModifiedBy>
  <cp:lastPrinted>2000-05-10T17:23:18Z</cp:lastPrinted>
  <dcterms:modified xsi:type="dcterms:W3CDTF">2003-11-08T20:13:05Z</dcterms:modified>
  <cp:revision>457</cp:revision>
  <dc:subject/>
  <dc:title>EP Sample Style Guide</dc:title>
</cp:coreProperties>
</file>